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0058400" cy="77724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32F0-5E41-45D0-8C91-7518E7A1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49712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6BB-C7E1-477E-9F65-3420E303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05E2-C630-48E4-A576-34EA9B53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580F-5BA3-4F0E-AF99-0F503343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FCAE-9540-4C14-B48D-E65DF3F8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819080"/>
            <a:ext cx="905040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93E1-ABE3-4BF0-B95E-82D8C5AA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905040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2EDF-EE43-45E9-B7B6-A866FFA6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F36E-C8E4-4859-AEF9-8582011C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5F7F-2BF9-45CA-9862-D4916AC3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9240"/>
            <a:ext cx="90504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52C7-2729-4E76-A901-007D24C5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D269-A327-4B3A-A601-A138C4A5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19080"/>
            <a:ext cx="905040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1BCF-DCD0-4E5B-90AE-C743C94D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80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59A8-D870-434C-BD6C-B10EA961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EFDA-3623-47A9-9F09-AEE698FC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49712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E3DD-C7E3-4981-8E56-26F7473D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080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7719-9195-4F84-A5CE-A247B302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8626-ACCA-4059-A9DC-AB205944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A802A-0456-4E42-8BC5-C7FBEEEA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819080"/>
            <a:ext cx="905040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A84BE-E38F-4B07-BCF5-6EB734E5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905040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5D315-C73F-492E-A912-FDC878C7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D33BE-2330-46E3-B2C0-456C341C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7B34A-1972-4D0E-9EDE-26639DC8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905040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4E7B-0AAA-45FA-9C00-C6C92FE0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9240"/>
            <a:ext cx="90504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F3C5B-2380-480C-A8B6-20DFABF5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3F0FB-0CE5-45A4-B44C-E33D9D8D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080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8289F-1F8F-46CB-B322-B24BEED6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E3B5B-4EC3-4F38-B7DA-A640D54E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49712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9EFA-37EC-4A85-988B-C6BF3A0F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080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31924-F351-4E20-986D-DE49433A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2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2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7CD07-FE6D-424E-B598-D773D975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7BA2A-2A76-4E8A-8437-5FBB9458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819080"/>
            <a:ext cx="905040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E7122-E6E4-42C4-949A-6703E9BB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905040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58D22-B0A9-4C6E-8311-57EA4E56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54C-AD65-4306-8C81-F5F0B15F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FCFA0-D43F-4EF8-A002-1143671B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8D312-1093-4B28-AAE9-59B5CB4F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309240"/>
            <a:ext cx="90504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16073-D412-4F77-993D-9FCB47E1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D730F-D65D-46C4-9149-9F2690E7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080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C7DC0-76FF-405E-85F1-1FCA1678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9231B-179E-4612-A98A-260398A3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3280" y="449712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C4D52-B6EE-4A55-B3AE-3A3DCBD4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080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B3F83-22B3-4D81-88E7-305D6E8C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2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2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3DF5B-4A74-4229-BDB8-9659B8A1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C3C-2AF2-4F63-9322-949B95A0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9240"/>
            <a:ext cx="90504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E9F-CC3E-476A-89C5-F321B82A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1E4-54EA-4178-B3EA-7E0F631C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3B2-9062-4E54-8364-771400AC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A2B-5621-46F1-AB70-A76FDA7E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819080"/>
            <a:ext cx="905040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7080120"/>
            <a:ext cx="234144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0160" y="7080120"/>
            <a:ext cx="31860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11520" y="7080120"/>
            <a:ext cx="23418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2C851-6871-4C8C-B944-C67A58BF4C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4560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819080"/>
            <a:ext cx="9050400" cy="4655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3280" y="6858000"/>
            <a:ext cx="234144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0160" y="6858000"/>
            <a:ext cx="31860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11520" y="6858000"/>
            <a:ext cx="23418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B0F3A-79A0-40FF-8DF8-87F724E25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64004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814320"/>
            <a:ext cx="90504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3280" y="5526000"/>
            <a:ext cx="234144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0160" y="5526000"/>
            <a:ext cx="31860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11520" y="5526000"/>
            <a:ext cx="23418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0715A-1048-4823-8212-7383A080B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3280" y="1819080"/>
            <a:ext cx="905040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3280" y="7080120"/>
            <a:ext cx="234144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0160" y="7080120"/>
            <a:ext cx="31860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11520" y="7080120"/>
            <a:ext cx="23418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15FD4-3397-4CE5-B78B-18781C511C2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184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Waiting for the Rain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03280" y="1819080"/>
            <a:ext cx="90518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Morgan Fi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184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frican Artwork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52592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king of pottery in Africa began around the 7</a:t>
            </a:r>
            <a:r>
              <a:rPr b="0" lang="en-US" sz="3200" spc="-1" strike="noStrike" baseline="33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illennium B.C. and continues to this day in the various regions of the contin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943600" y="434340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353880"/>
            <a:ext cx="9051840" cy="1208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ho made the pottery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1819440"/>
            <a:ext cx="45259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most cases pottery was made by women. Clay is worked on mostly by hand into the desired sh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551560" y="1600200"/>
            <a:ext cx="3592440" cy="2971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502240" y="480060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353880"/>
            <a:ext cx="9051840" cy="1208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rying and Kilning the  Cla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1819440"/>
            <a:ext cx="45259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drying the clay, the pots are put in a pile and covered with wood, bark or cow dung and baked outdoors in an open fire. In Nigeria and  Mali, real kilns are used  to bake the po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715000" y="182880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715000" y="4800600"/>
            <a:ext cx="4114800" cy="2825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0:54:45Z</dcterms:created>
  <dc:creator>mark finn</dc:creator>
  <dc:description/>
  <dc:language>en-US</dc:language>
  <cp:lastModifiedBy>mark finn</cp:lastModifiedBy>
  <dcterms:modified xsi:type="dcterms:W3CDTF">2010-11-04T22:59:28Z</dcterms:modified>
  <cp:revision>3</cp:revision>
  <dc:subject/>
  <dc:title/>
</cp:coreProperties>
</file>